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A8A-3E81-4AB2-869F-7EB98C02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E59-105E-4BEB-A2A2-82F82467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EB6-5DD2-46CC-A53C-6E9461AD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21F-AEFA-4A4E-91CC-FCCE4A5A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17D-3466-4936-AF75-35A88BE2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1E4-038D-47F3-A33F-928FD63E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1F53-5332-4267-80F4-294DC527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CFC-9DD3-4A42-AEFB-20279400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252-7293-44B3-B7F0-3A0D9F1D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A94-6C15-4B22-9085-64002895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822-A357-4A70-8E8A-7617B5A4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7FB-F30B-42D4-8057-A1A48815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D3AE-B418-443C-87F7-FABEA680225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290520" y="993600"/>
            <a:ext cx="8562960" cy="221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1692360" y="4149720"/>
            <a:ext cx="7072200" cy="67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609560" y="4941720"/>
            <a:ext cx="7237440" cy="77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1744560" y="5788080"/>
            <a:ext cx="71233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14480" y="1484280"/>
            <a:ext cx="89154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1187280" y="3997440"/>
            <a:ext cx="7696440" cy="209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1197000" y="1052640"/>
            <a:ext cx="7696080" cy="1028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5"/>
          <a:stretch/>
        </p:blipFill>
        <p:spPr>
          <a:xfrm>
            <a:off x="1908000" y="2871720"/>
            <a:ext cx="6963120" cy="4860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4322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بل هو شامل لكل الجسم والوجه من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609300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القرآن الكريم بالسنة النبو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250920" y="2060640"/>
            <a:ext cx="86421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852640"/>
            <a:ext cx="860256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22480" y="4797360"/>
            <a:ext cx="3441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04840" y="1700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أحوال التعساء  ذكر أحوال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2430360" y="1052640"/>
            <a:ext cx="6462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08000" y="1012680"/>
            <a:ext cx="8901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250920" y="2289240"/>
            <a:ext cx="8642160" cy="437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869320" cy="9363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6021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لو وجوههم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رجوا من القبو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4869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ا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ستطيل 1"/>
          <p:cNvSpPr/>
          <p:nvPr/>
        </p:nvSpPr>
        <p:spPr>
          <a:xfrm>
            <a:off x="8604360" y="1700280"/>
            <a:ext cx="288720" cy="14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ا يخلف وعده أبداً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صرة الحق وأهله وفي الانتقام من الباطل وحز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ظم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من اهوال وتغييرات كو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492280"/>
            <a:ext cx="8666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قيام الموتى من قبورهم للحساب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0680" y="303840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حوال المجرمين عند العرض وفي جهن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قيدين بالقيود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قمصانهم من نحاس مذاب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تغطي وجوهم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841920"/>
            <a:ext cx="8666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عزوجل لا يظلم أحداً ولا يهلك الله إل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حق 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319640"/>
            <a:ext cx="8666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حاطته سبحانه بكل شيء فلا يشغله شان عن شأن بل يحاسب النا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ميعاً في وقت واح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8038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الكريم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لاغ والإنذار وقيام الحجة على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531972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آيات الله عز وجل المقروءة والمشاهدة تدل ع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حدانية الله تعالى وهي عظة لأولى الألبا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2360" y="2419200"/>
            <a:ext cx="8640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ملي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59280" y="976320"/>
            <a:ext cx="586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9T15:35:33Z</dcterms:modified>
  <cp:revision>1881</cp:revision>
  <dc:subject/>
  <dc:title>عرض تقديمي في PowerPoint</dc:title>
</cp:coreProperties>
</file>